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F9107-FF8E-46F0-934F-D587C7FA22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318C0F-96CD-444E-8B61-5D4BA8CD1CB3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AA23EA-3020-4F75-B984-F847492491A5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9BBCBE-794C-497C-BA58-837901E12D51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EA4F34-BB51-42F4-8750-731526C8D0E2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173160" y="6165720"/>
            <a:ext cx="1374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3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9923a"/>
          </a:solidFill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5811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923a"/>
                </a:solidFill>
                <a:latin typeface="Arial"/>
              </a:rPr>
              <a:t>Grammar and Meaning: Clause Compl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65280" y="5029200"/>
            <a:ext cx="30686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923a"/>
                </a:solidFill>
                <a:latin typeface="Arial"/>
              </a:rPr>
              <a:t>Robert 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view of Clause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 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ypo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.B. *Embedded (rank shifted) clauses not considered a claus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ordinated Clauses (Para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uses of equal statu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ANBOY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FOR, AND, NOR, BUT, OR, YET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(additive: addition, time sequence, logical sequenc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ant to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(disjunctive: alte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going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staying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(adversative: contra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ik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do not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(consequential, cause and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ve started, so I’ll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53640" y="1600200"/>
            <a:ext cx="7566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lause can be dependent on ano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nant clause (alpha)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 (beta) 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eats cak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feels si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 (Hypo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fter, although, if, unless, so that, ther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s seemed long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, summers seemed lo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pendent Clause versus Rank-shif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A non-defining relative clause is considered 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as brok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c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i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brok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ai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no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car,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i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 a good 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ereas, a defining relative clause is considered rank shifted and not part of a clause comp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e car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that was 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mod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Predic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 cost him nothing. The other one cost him a lo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r, T. and Bloor, M. (2004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unctional Analysis of English: A Hallidayan Appro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)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LIDAY, M.A.K. (1985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 Introduction to Functional Gramm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20:48:00Z</dcterms:created>
  <dc:creator>David Wilson</dc:creator>
  <dc:description/>
  <dc:language>en-US</dc:language>
  <cp:lastModifiedBy>fox rob</cp:lastModifiedBy>
  <dcterms:modified xsi:type="dcterms:W3CDTF">2009-02-26T02:00:33Z</dcterms:modified>
  <cp:revision>29</cp:revision>
  <dc:subject/>
  <dc:title>PowerPoint Presentation</dc:title>
</cp:coreProperties>
</file>